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351FD-25DC-42A9-9912-69F3B35D6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29008-1149-4D77-A736-D5065A7C3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4C40-EC66-4E89-8DDA-FB6C3507E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61686-2078-4F6D-A1E9-C98AE76E1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33696-B1BB-4EFD-BE31-E684EFA5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4A4F6-DFC5-492B-BDF0-DE2A972C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370C9-903F-4593-B160-93C3CE12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3D3F5-C986-4B82-BFF5-871E507B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69F48-FE8B-4888-B1ED-D4D64FFF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A79E5-A2B4-4A04-9ADE-BA680AEA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315D7-31BB-4396-8D29-F17E996E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9D4CA-59E5-4E42-A251-A10CB508A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36E13-0EF5-4D0A-AB37-AB69CB85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E6A98-350E-4DD3-B5FE-32C950CB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AB956-0388-4A54-AB0D-A8A7368F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1EBD5-143B-4742-B409-DC42A54A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DC6CF-3A2F-44F1-93E2-C9ACCA4F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D9B27-F55D-45FC-838F-75363FD3F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0461-19EF-417F-A645-0C2A45AA3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E42B-5663-4DE7-A268-7368D2425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70DDE-B975-4052-9B42-1B68382F6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970F8-5E2E-4774-93C4-68050F7CD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3C26B-8B0E-4B94-99AE-07FBD44A9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86EF-13C2-47D4-A368-61574C4C9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6222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2223-404F-488B-A74B-D996B7B8BB9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CE48-ADF7-4794-8F90-408F363D01B1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Planeación de Requerimiento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14800" cy="177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61800" y="198108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Tiempos Planeados de Esp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15160" y="5457960"/>
            <a:ext cx="718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   Se asume que están disponibles la cubierta de la mesa y el ensamble compl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de la pa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* Se asume que están disponibles las patas, travesaños cortos y travesaños lar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B7BB-D482-4FA2-B97C-CB8C0B1B35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647960" cy="3627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52440" y="16765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lan de Materiales – Detalle de Par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D2931-0B7E-476F-B213-5F92CB8613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84440" y="2006640"/>
            <a:ext cx="4654440" cy="36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D9ACE-4A80-4218-A13D-7DD3782FDE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en cada etapa es la diferencia neta entre la producción y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onsiderar colchones de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DF635-0447-4CF2-AE22-E04DE68E12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grama Maest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duce al proceso completo de planeación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hasta de un 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Lista de Materiales (BOM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do detallado de todos los materiales y partes necesarias para la confección de los producto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EF5F-5796-4957-A778-CEC9CA912E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Registro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dentifica, para cada parte, datos bás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estánd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ánto hay de cada p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ué órdenes están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histó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Planeación de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termina la validez del programa maes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6F9D-B73E-49EA-A6A6-0CBDD2E753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eación de la capacidad directa (planeación de recurso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cular horas aproximadas de mano de obra y de máquinas a usar en el programa maest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la capacidad no alcanza se cambia el plan maestro o se cambi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 tener un programa factible se corre el detalle de pa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ga de tall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hace detalle completo de partes antes de ver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no es factible se cambia el plan maestro 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BF820-B60E-447F-B43F-9F472E0BF6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mp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función de compras es fuertemente reforzada por el uso de un sistema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ere de confianza con los proveedores al generar fechas más exac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mecanizar las comp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Control de Piso de Tall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 que las órdenes de producción se cum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8F3FF-13D3-45AB-84FE-22B8D453C6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eja las prior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liza ajuste ante cambios en las condiciones de ope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65643-E999-48E1-9773-09E8F84437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del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mejor llevar bien el sistema que tener mucho stock de seguridad para cada par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se necesitan 10 partes para un producto, cada una de las cuales tiene un nivel de servicio del 90%. La probabilidad de tener todas las partes a mano cuando se necesitan es de únicamente 35% (0.9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lo tanto es mucho mejor planear y controlar el tiempo de las 10 partes que cubrir todas las contingencias con stock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 de respetar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A10D-6569-415A-A98A-05E01B1ADE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 para productos de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onentes intermed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 Sistema Pull en que la demanda final gatilla la demanda por partes y componentes intermed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un programa maestro que guía las órdenes de compra de materia prima y la producción de compon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9FA6F-7A0B-4C47-9D53-14D204FBCD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lanear la Puesta en March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vital la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ducación sobre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establecer objetivos, costos y b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tallado de 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oporte Computac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atos Exac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B3C5C-16F0-4104-81C8-55848692AE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poyo Ger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nocimiento del Usuario en Todos los Nive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E374-8A02-4A6D-A8B5-6D7E8894BF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Benef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yor rotación de invent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rdenamiento del tiempo de entr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de capac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ducción de 20-30% en los inven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sto de instalación: 200 mil a 1 millón de dóla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difícil éx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F31F-3506-4529-AEE7-B87C8821A4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Para contar con 100 refrigeradores en la semana 8, necesito de 100 motores en la semana 6 y 100 componentes en la seman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neralmente las entregas y compras se hacen por lo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 requieren 40 unidades en la semana 3, 30 en la semana 4 y 35 en l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como ir produciendo, y consider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producción, incluyendo costo fi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: considerar producción de otros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s compras ver la relación con el vendedor y el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5150-7B29-43EE-9A2D-4583346379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 las compras y la producción en el tiempo, pero no considera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la producción 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considera la capacidad y se utilizan reglas heurísticas para move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27AB-CF2B-427F-B64F-7779ED8EA8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laneación de Recur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ea y controla todos los recursos de manufact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ursos mone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1062-C23E-4B4D-8FE9-EB76A9C95B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06520" y="1371600"/>
            <a:ext cx="4537080" cy="5257800"/>
            <a:chOff x="1406520" y="1371600"/>
            <a:chExt cx="4537080" cy="52578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406520" y="1447920"/>
              <a:ext cx="45370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1371600"/>
              <a:ext cx="7617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agreg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55800" y="22096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edidos en fir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 clientes o 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erminad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0640" y="22096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nó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81480" y="369576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ransaccio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 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6080" y="370836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Cambios 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el diseñ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79840" y="358632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56000" y="37465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Registr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25680" y="37591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Lis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mater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3124080"/>
              <a:ext cx="8384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apacidad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rte ru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38560" y="3124080"/>
              <a:ext cx="876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gra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es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1160" y="3809880"/>
              <a:ext cx="83808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ta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par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79840" y="4508640"/>
              <a:ext cx="83808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508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079960"/>
              <a:ext cx="76212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la capac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651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ntrol de pi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l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626112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pera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485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62611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6032520"/>
              <a:ext cx="3808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te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im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81360" y="6248520"/>
              <a:ext cx="64764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vee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54280" y="1757520"/>
            <a:ext cx="209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istema MRP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circuito cer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Tipo 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C592-14F5-497B-A51C-E844ADA266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RP vs Punto de Reor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277640" y="22604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uadro Compar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2825640"/>
            <a:ext cx="716256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21B5-696E-4BB2-99D4-B947408A32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222360" y="518148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la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22460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847B-3F21-4EFD-A76E-4B7959398D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394800" y="51814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ista de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0360" y="5797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Nota: La cantidad de cada componente se indica entre paré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4038480" cy="30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CB5E2-FD65-457B-A872-A6C58AF004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.................</cp:lastModifiedBy>
  <cp:lastPrinted>2001-08-09T21:48:07Z</cp:lastPrinted>
  <dcterms:modified xsi:type="dcterms:W3CDTF">2008-09-23T13:44:18Z</dcterms:modified>
  <cp:revision>89</cp:revision>
  <dc:subject/>
  <dc:title>Modelamiento Físico de Interfaces</dc:title>
</cp:coreProperties>
</file>